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931E-8599-4C12-81FA-D8C876E4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640F-D8FB-4B98-80EF-E3FE18EA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02B7-411C-41C2-B0F1-A5BF8B69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D3DD-03FB-4523-8CFB-0210A19D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36FE-93CF-47F4-BE6E-0EFACF28E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B7CB-C98C-4EA4-AE1A-9172DA3B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2472-CB79-4DF1-B981-BE5FB78A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27C4-C66C-46B6-962D-A5F0F8EE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F61C-E172-467E-8A81-66769700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F231-9DD0-4FCB-9C57-A7E87694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C0EF-D7DE-4BF2-B82A-B3AB770B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C659-6F1E-44A5-BAAA-6CA7E1DB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FF1C-D4F5-4E1E-8C93-2C791C03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DC9A-B2A2-4E36-9E2E-51638649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6195-527A-4022-A471-22DBA194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5F34-1A66-404F-827A-D7526AFF2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A406-9FD2-4AB7-9A15-BC084F373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C2CA-1F27-4721-B404-9FADC5B0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4FC8-8744-47FD-AAEE-59D0B219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53ED-DACF-4483-BAFF-9E8C765B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5685-3DE8-4CDC-A7B3-5F93E693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CC41-550B-4AE8-AC0E-275AC1D3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0747-2BE7-4572-AEB8-2D9EE1F7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DE07-B300-4713-86BB-ABEF7875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E237-216F-4897-98DF-26FFF3BFF93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E8A6-DEE8-45FB-9865-36354AD6EA1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arrow.wav" TargetMode="External"/><Relationship Id="rId3" Type="http://schemas.microsoft.com/office/2007/relationships/media" Target="file:///tmp/home/.config/libreoffice/4/user/gallery/arrow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6633"/>
                </a:solidFill>
                <a:latin typeface="Garamond"/>
              </a:rPr>
              <a:t>関西弁を　聞いてみよう！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国際交流基金関西国際センタ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apan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panese-Language Institute, Kans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2349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かん　さい　べ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95640" y="234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728352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チャウチャウ犬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‐</a:t>
            </a:r>
            <a:r>
              <a:rPr b="0" lang="zh-CN" sz="2800" spc="-1" strike="noStrike">
                <a:solidFill>
                  <a:srgbClr val="996600"/>
                </a:solidFill>
                <a:latin typeface="Garamond"/>
              </a:rPr>
              <a:t>共通語での言い換え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"/>
          <p:cNvSpPr/>
          <p:nvPr/>
        </p:nvSpPr>
        <p:spPr>
          <a:xfrm>
            <a:off x="684360" y="1557360"/>
            <a:ext cx="770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あの犬、かわいい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うん、あれ、チャウチャウじゃな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いや、チャウチャウじゃない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本当？　チャウチャウだ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いや、チャウチャウじゃないんじゃない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08720" y="2276640"/>
            <a:ext cx="1150920" cy="360360"/>
          </a:xfrm>
          <a:custGeom>
            <a:avLst/>
            <a:gdLst/>
            <a:ahLst/>
            <a:rect l="l" t="t" r="r" b="b"/>
            <a:pathLst>
              <a:path w="1543" h="280">
                <a:moveTo>
                  <a:pt x="0" y="272"/>
                </a:moveTo>
                <a:cubicBezTo>
                  <a:pt x="193" y="276"/>
                  <a:pt x="386" y="280"/>
                  <a:pt x="545" y="272"/>
                </a:cubicBezTo>
                <a:cubicBezTo>
                  <a:pt x="704" y="264"/>
                  <a:pt x="825" y="249"/>
                  <a:pt x="953" y="226"/>
                </a:cubicBezTo>
                <a:cubicBezTo>
                  <a:pt x="1081" y="203"/>
                  <a:pt x="1218" y="174"/>
                  <a:pt x="1316" y="136"/>
                </a:cubicBezTo>
                <a:cubicBezTo>
                  <a:pt x="1414" y="98"/>
                  <a:pt x="1505" y="23"/>
                  <a:pt x="1543" y="0"/>
                </a:cubicBezTo>
              </a:path>
            </a:pathLst>
          </a:custGeom>
          <a:noFill/>
          <a:ln w="19080">
            <a:solidFill>
              <a:srgbClr val="cc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4360" y="1557360"/>
            <a:ext cx="770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あの犬、かわいい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うん、あれ、チャウチャウじゃな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いや、チャウチャウじゃない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本当？　チャウチャウだ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いや、チャウチャウじゃないんじゃない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08720" y="2276640"/>
            <a:ext cx="1150920" cy="360360"/>
          </a:xfrm>
          <a:custGeom>
            <a:avLst/>
            <a:gdLst/>
            <a:ahLst/>
            <a:rect l="l" t="t" r="r" b="b"/>
            <a:pathLst>
              <a:path w="1543" h="280">
                <a:moveTo>
                  <a:pt x="0" y="272"/>
                </a:moveTo>
                <a:cubicBezTo>
                  <a:pt x="193" y="276"/>
                  <a:pt x="386" y="280"/>
                  <a:pt x="545" y="272"/>
                </a:cubicBezTo>
                <a:cubicBezTo>
                  <a:pt x="704" y="264"/>
                  <a:pt x="825" y="249"/>
                  <a:pt x="953" y="226"/>
                </a:cubicBezTo>
                <a:cubicBezTo>
                  <a:pt x="1081" y="203"/>
                  <a:pt x="1218" y="174"/>
                  <a:pt x="1316" y="136"/>
                </a:cubicBezTo>
                <a:cubicBezTo>
                  <a:pt x="1414" y="98"/>
                  <a:pt x="1505" y="23"/>
                  <a:pt x="1543" y="0"/>
                </a:cubicBezTo>
              </a:path>
            </a:pathLst>
          </a:custGeom>
          <a:noFill/>
          <a:ln w="19080">
            <a:solidFill>
              <a:srgbClr val="cc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72360" y="5157720"/>
            <a:ext cx="1150920" cy="360360"/>
          </a:xfrm>
          <a:custGeom>
            <a:avLst/>
            <a:gdLst/>
            <a:ahLst/>
            <a:rect l="l" t="t" r="r" b="b"/>
            <a:pathLst>
              <a:path w="1543" h="280">
                <a:moveTo>
                  <a:pt x="0" y="272"/>
                </a:moveTo>
                <a:cubicBezTo>
                  <a:pt x="193" y="276"/>
                  <a:pt x="386" y="280"/>
                  <a:pt x="545" y="272"/>
                </a:cubicBezTo>
                <a:cubicBezTo>
                  <a:pt x="704" y="264"/>
                  <a:pt x="825" y="249"/>
                  <a:pt x="953" y="226"/>
                </a:cubicBezTo>
                <a:cubicBezTo>
                  <a:pt x="1081" y="203"/>
                  <a:pt x="1218" y="174"/>
                  <a:pt x="1316" y="136"/>
                </a:cubicBezTo>
                <a:cubicBezTo>
                  <a:pt x="1414" y="98"/>
                  <a:pt x="1505" y="23"/>
                  <a:pt x="1543" y="0"/>
                </a:cubicBezTo>
              </a:path>
            </a:pathLst>
          </a:custGeom>
          <a:noFill/>
          <a:ln w="19080">
            <a:solidFill>
              <a:srgbClr val="cc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43640" y="1413000"/>
            <a:ext cx="2189160" cy="40788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1908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会話をまとめて聞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24000" y="270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324000" y="3645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324000" y="4653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324000" y="5589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8317080" y="1916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4" dur="2354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9" dur="2072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" dur="2098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9" dur="2124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4" dur="2673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11528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763640" y="2492280"/>
            <a:ext cx="2160720" cy="785520"/>
          </a:xfrm>
          <a:prstGeom prst="wedgeRectCallout">
            <a:avLst>
              <a:gd name="adj1" fmla="val 40069"/>
              <a:gd name="adj2" fmla="val 13593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かんさいべん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おもしろかった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780000" y="4221000"/>
            <a:ext cx="1901520" cy="11592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42591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おしま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"/>
          <p:cNvSpPr/>
          <p:nvPr/>
        </p:nvSpPr>
        <p:spPr>
          <a:xfrm>
            <a:off x="5364000" y="3068640"/>
            <a:ext cx="2160720" cy="785520"/>
          </a:xfrm>
          <a:prstGeom prst="wedgeRectCallout">
            <a:avLst>
              <a:gd name="adj1" fmla="val -46337"/>
              <a:gd name="adj2" fmla="val 10863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おおきに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さいな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21044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箸（はし）の買物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‐</a:t>
            </a:r>
            <a:r>
              <a:rPr b="0" lang="zh-CN" sz="2800" spc="-1" strike="noStrike">
                <a:solidFill>
                  <a:srgbClr val="996600"/>
                </a:solidFill>
                <a:latin typeface="Garamond"/>
              </a:rPr>
              <a:t>関西弁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77151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ff0000"/>
                </a:solidFill>
                <a:latin typeface="Arial"/>
              </a:rPr>
              <a:t>客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　 ：この箸、ええな。なんぼ？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3333cc"/>
                </a:solidFill>
                <a:latin typeface="Arial"/>
              </a:rPr>
              <a:t>店員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5,000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円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ff0000"/>
                </a:solidFill>
                <a:latin typeface="Arial"/>
              </a:rPr>
              <a:t>客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　 ：高（たか）！　ほんまに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5,000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円？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3333cc"/>
                </a:solidFill>
                <a:latin typeface="Arial"/>
              </a:rPr>
              <a:t>店員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：うそちゃうで。ええ木、つこてんねん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ff0000"/>
                </a:solidFill>
                <a:latin typeface="Arial"/>
              </a:rPr>
              <a:t>客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　 ：高すぎて、箸が東京スカイツリーに見えるわ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　　　 ちょっとまけてくれへん？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3333cc"/>
                </a:solidFill>
                <a:latin typeface="Arial"/>
              </a:rPr>
              <a:t>店員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：そやな、お客さんべっぴんさんやし、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4,000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円でどや？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ff0000"/>
                </a:solidFill>
                <a:latin typeface="Arial"/>
              </a:rPr>
              <a:t>客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 　：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2,000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円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3333cc"/>
                </a:solidFill>
                <a:latin typeface="Arial"/>
              </a:rPr>
              <a:t>店員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：あかん。安すぎや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ff0000"/>
                </a:solidFill>
                <a:latin typeface="Arial"/>
              </a:rPr>
              <a:t>客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　 ：ほな、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3,000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円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3333cc"/>
                </a:solidFill>
                <a:latin typeface="Arial"/>
              </a:rPr>
              <a:t>店員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：しゃあないな。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3,000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円でええわ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ff0000"/>
                </a:solidFill>
                <a:latin typeface="Arial"/>
              </a:rPr>
              <a:t>客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　 ：おおきに。はい、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3,000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円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3333cc"/>
                </a:solidFill>
                <a:latin typeface="Arial"/>
              </a:rPr>
              <a:t>店員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：まいど、おおきに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79280" y="1557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79280" y="1916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179280" y="2276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163440" y="263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179280" y="3357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179280" y="371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0"/>
          <a:stretch/>
        </p:blipFill>
        <p:spPr>
          <a:xfrm>
            <a:off x="179280" y="4076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1"/>
          <a:stretch/>
        </p:blipFill>
        <p:spPr>
          <a:xfrm>
            <a:off x="179280" y="4437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2"/>
          <a:stretch/>
        </p:blipFill>
        <p:spPr>
          <a:xfrm>
            <a:off x="179280" y="4797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3"/>
          <a:stretch/>
        </p:blipFill>
        <p:spPr>
          <a:xfrm>
            <a:off x="179280" y="5157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4"/>
          <a:stretch/>
        </p:blipFill>
        <p:spPr>
          <a:xfrm>
            <a:off x="179280" y="5516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443640" y="1413000"/>
            <a:ext cx="2189160" cy="40788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1908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会話をまとめて聞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5"/>
          <a:stretch/>
        </p:blipFill>
        <p:spPr>
          <a:xfrm>
            <a:off x="8317080" y="1916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7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92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3"/>
                </p:tgtEl>
              </p:cMediaNode>
            </p:audio>
            <p:seq>
              <p:cTn id="1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177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3065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552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4815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106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249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576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169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2568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47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37546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箸（はし）の買物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‐</a:t>
            </a:r>
            <a:r>
              <a:rPr b="0" lang="zh-CN" sz="2800" spc="-1" strike="noStrike">
                <a:solidFill>
                  <a:srgbClr val="996600"/>
                </a:solidFill>
                <a:latin typeface="Garamond"/>
              </a:rPr>
              <a:t>共通語での言い換え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7715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0000"/>
                </a:solidFill>
                <a:latin typeface="Arial"/>
              </a:rPr>
              <a:t>客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　　：この箸、いいわね。いくら？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3333cc"/>
                </a:solidFill>
                <a:latin typeface="Arial"/>
              </a:rPr>
              <a:t>店員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5,000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円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0000"/>
                </a:solidFill>
                <a:latin typeface="Arial"/>
              </a:rPr>
              <a:t>客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：高い！　本当に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5,000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円？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3333cc"/>
                </a:solidFill>
                <a:latin typeface="Arial"/>
              </a:rPr>
              <a:t>店員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：うそじゃないよ。いい木を使ってるんだよ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0000"/>
                </a:solidFill>
                <a:latin typeface="Arial"/>
              </a:rPr>
              <a:t>客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　  ：高すぎて、箸が東京スカイツリーに見えるわ。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ちょっと安くしてくれない？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3333cc"/>
                </a:solidFill>
                <a:latin typeface="Arial"/>
              </a:rPr>
              <a:t>店員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：そうだね、お客さん美人だし、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4,000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円でどう？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0000"/>
                </a:solidFill>
                <a:latin typeface="Arial"/>
              </a:rPr>
              <a:t>客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　　：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,000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円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3333cc"/>
                </a:solidFill>
                <a:latin typeface="Arial"/>
              </a:rPr>
              <a:t>店員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：だめ。安すぎる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0000"/>
                </a:solidFill>
                <a:latin typeface="Arial"/>
              </a:rPr>
              <a:t>客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　　：だったら、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,000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円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3333cc"/>
                </a:solidFill>
                <a:latin typeface="Arial"/>
              </a:rPr>
              <a:t>店員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：仕方ないな。じゃ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,000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円でいいや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0000"/>
                </a:solidFill>
                <a:latin typeface="Arial"/>
              </a:rPr>
              <a:t>客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　　：ありがとう。はい、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,000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円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3333cc"/>
                </a:solidFill>
                <a:latin typeface="Arial"/>
              </a:rPr>
              <a:t>店員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：いつも、ありがとうございます。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9280" y="1600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79280" y="198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7928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79280" y="270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179280" y="3357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179280" y="371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179280" y="4076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179280" y="4437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179280" y="4797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179280" y="5157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2"/>
          <a:stretch/>
        </p:blipFill>
        <p:spPr>
          <a:xfrm>
            <a:off x="179280" y="5516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443640" y="1413000"/>
            <a:ext cx="2189160" cy="40788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1908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会話をまとめて聞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3"/>
          <a:stretch/>
        </p:blipFill>
        <p:spPr>
          <a:xfrm>
            <a:off x="8388360" y="1916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725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949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2464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3509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5468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444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184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2177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889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3718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228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215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33393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42591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関西弁は・・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41300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拍が１つの単語は　長くなり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68360" y="2492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き（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24360" y="256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76720" y="2492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き</a:t>
            </a:r>
            <a:r>
              <a:rPr b="0" lang="zh-CN" sz="3200" spc="-1" strike="noStrike">
                <a:solidFill>
                  <a:srgbClr val="996600"/>
                </a:solidFill>
                <a:latin typeface="Arial"/>
              </a:rPr>
              <a:t>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40000" y="3645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め（目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24360" y="3645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76720" y="3645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め</a:t>
            </a:r>
            <a:r>
              <a:rPr b="0" lang="zh-CN" sz="3200" spc="-1" strike="noStrike">
                <a:solidFill>
                  <a:srgbClr val="996600"/>
                </a:solidFill>
                <a:latin typeface="Arial"/>
              </a:rPr>
              <a:t>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4724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て（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4724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76720" y="4653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て</a:t>
            </a:r>
            <a:r>
              <a:rPr b="0" lang="zh-CN" sz="3200" spc="-1" strike="noStrike">
                <a:solidFill>
                  <a:srgbClr val="996600"/>
                </a:solidFill>
                <a:latin typeface="Arial"/>
              </a:rPr>
              <a:t>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908000" y="270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908000" y="3860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908000" y="486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4643280" y="270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4627440" y="3860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4627440" y="486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975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1236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1393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1733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942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1654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42591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関西弁は・・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141300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クセントが　ちがい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48000" y="2205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共通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00720" y="2205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関西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03280" y="335772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64000" y="33577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は 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03280" y="4653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336384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は 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64000" y="4653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は 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43640" y="465948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は 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08360" y="3357720"/>
            <a:ext cx="988920" cy="576000"/>
          </a:xfrm>
          <a:custGeom>
            <a:avLst/>
            <a:gdLst/>
            <a:ahLst/>
            <a:rect l="l" t="t" r="r" b="b"/>
            <a:pathLst>
              <a:path w="1548" h="596">
                <a:moveTo>
                  <a:pt x="0" y="0"/>
                </a:moveTo>
                <a:cubicBezTo>
                  <a:pt x="122" y="2"/>
                  <a:pt x="244" y="2"/>
                  <a:pt x="366" y="6"/>
                </a:cubicBezTo>
                <a:cubicBezTo>
                  <a:pt x="427" y="8"/>
                  <a:pt x="477" y="77"/>
                  <a:pt x="534" y="96"/>
                </a:cubicBezTo>
                <a:cubicBezTo>
                  <a:pt x="562" y="137"/>
                  <a:pt x="544" y="127"/>
                  <a:pt x="576" y="138"/>
                </a:cubicBezTo>
                <a:cubicBezTo>
                  <a:pt x="580" y="144"/>
                  <a:pt x="583" y="151"/>
                  <a:pt x="588" y="156"/>
                </a:cubicBezTo>
                <a:cubicBezTo>
                  <a:pt x="599" y="165"/>
                  <a:pt x="624" y="180"/>
                  <a:pt x="624" y="180"/>
                </a:cubicBezTo>
                <a:cubicBezTo>
                  <a:pt x="634" y="209"/>
                  <a:pt x="647" y="229"/>
                  <a:pt x="672" y="246"/>
                </a:cubicBezTo>
                <a:cubicBezTo>
                  <a:pt x="683" y="278"/>
                  <a:pt x="674" y="259"/>
                  <a:pt x="702" y="300"/>
                </a:cubicBezTo>
                <a:cubicBezTo>
                  <a:pt x="709" y="311"/>
                  <a:pt x="710" y="324"/>
                  <a:pt x="714" y="336"/>
                </a:cubicBezTo>
                <a:cubicBezTo>
                  <a:pt x="719" y="350"/>
                  <a:pt x="730" y="360"/>
                  <a:pt x="738" y="372"/>
                </a:cubicBezTo>
                <a:cubicBezTo>
                  <a:pt x="758" y="403"/>
                  <a:pt x="759" y="434"/>
                  <a:pt x="792" y="456"/>
                </a:cubicBezTo>
                <a:cubicBezTo>
                  <a:pt x="795" y="466"/>
                  <a:pt x="800" y="486"/>
                  <a:pt x="810" y="492"/>
                </a:cubicBezTo>
                <a:cubicBezTo>
                  <a:pt x="821" y="499"/>
                  <a:pt x="846" y="504"/>
                  <a:pt x="846" y="504"/>
                </a:cubicBezTo>
                <a:cubicBezTo>
                  <a:pt x="868" y="570"/>
                  <a:pt x="929" y="593"/>
                  <a:pt x="996" y="594"/>
                </a:cubicBezTo>
                <a:cubicBezTo>
                  <a:pt x="1180" y="596"/>
                  <a:pt x="1364" y="594"/>
                  <a:pt x="1548" y="594"/>
                </a:cubicBezTo>
              </a:path>
            </a:pathLst>
          </a:custGeom>
          <a:noFill/>
          <a:ln w="2844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21405600">
            <a:off x="6590880" y="4581000"/>
            <a:ext cx="988920" cy="650880"/>
          </a:xfrm>
          <a:custGeom>
            <a:avLst/>
            <a:gdLst/>
            <a:ahLst/>
            <a:rect l="l" t="t" r="r" b="b"/>
            <a:pathLst>
              <a:path w="1548" h="596">
                <a:moveTo>
                  <a:pt x="0" y="0"/>
                </a:moveTo>
                <a:cubicBezTo>
                  <a:pt x="122" y="2"/>
                  <a:pt x="244" y="2"/>
                  <a:pt x="366" y="6"/>
                </a:cubicBezTo>
                <a:cubicBezTo>
                  <a:pt x="427" y="8"/>
                  <a:pt x="477" y="77"/>
                  <a:pt x="534" y="96"/>
                </a:cubicBezTo>
                <a:cubicBezTo>
                  <a:pt x="562" y="137"/>
                  <a:pt x="544" y="127"/>
                  <a:pt x="576" y="138"/>
                </a:cubicBezTo>
                <a:cubicBezTo>
                  <a:pt x="580" y="144"/>
                  <a:pt x="583" y="151"/>
                  <a:pt x="588" y="156"/>
                </a:cubicBezTo>
                <a:cubicBezTo>
                  <a:pt x="599" y="165"/>
                  <a:pt x="624" y="180"/>
                  <a:pt x="624" y="180"/>
                </a:cubicBezTo>
                <a:cubicBezTo>
                  <a:pt x="634" y="209"/>
                  <a:pt x="647" y="229"/>
                  <a:pt x="672" y="246"/>
                </a:cubicBezTo>
                <a:cubicBezTo>
                  <a:pt x="683" y="278"/>
                  <a:pt x="674" y="259"/>
                  <a:pt x="702" y="300"/>
                </a:cubicBezTo>
                <a:cubicBezTo>
                  <a:pt x="709" y="311"/>
                  <a:pt x="710" y="324"/>
                  <a:pt x="714" y="336"/>
                </a:cubicBezTo>
                <a:cubicBezTo>
                  <a:pt x="719" y="350"/>
                  <a:pt x="730" y="360"/>
                  <a:pt x="738" y="372"/>
                </a:cubicBezTo>
                <a:cubicBezTo>
                  <a:pt x="758" y="403"/>
                  <a:pt x="759" y="434"/>
                  <a:pt x="792" y="456"/>
                </a:cubicBezTo>
                <a:cubicBezTo>
                  <a:pt x="795" y="466"/>
                  <a:pt x="800" y="486"/>
                  <a:pt x="810" y="492"/>
                </a:cubicBezTo>
                <a:cubicBezTo>
                  <a:pt x="821" y="499"/>
                  <a:pt x="846" y="504"/>
                  <a:pt x="846" y="504"/>
                </a:cubicBezTo>
                <a:cubicBezTo>
                  <a:pt x="868" y="570"/>
                  <a:pt x="929" y="593"/>
                  <a:pt x="996" y="594"/>
                </a:cubicBezTo>
                <a:cubicBezTo>
                  <a:pt x="1180" y="596"/>
                  <a:pt x="1364" y="594"/>
                  <a:pt x="1548" y="594"/>
                </a:cubicBezTo>
              </a:path>
            </a:pathLst>
          </a:custGeom>
          <a:noFill/>
          <a:ln w="2844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3359160"/>
            <a:ext cx="863640" cy="574560"/>
          </a:xfrm>
          <a:custGeom>
            <a:avLst/>
            <a:gdLst/>
            <a:ahLst/>
            <a:rect l="l" t="t" r="r" b="b"/>
            <a:pathLst>
              <a:path w="960" h="453">
                <a:moveTo>
                  <a:pt x="0" y="451"/>
                </a:moveTo>
                <a:cubicBezTo>
                  <a:pt x="139" y="448"/>
                  <a:pt x="228" y="453"/>
                  <a:pt x="348" y="433"/>
                </a:cubicBezTo>
                <a:cubicBezTo>
                  <a:pt x="380" y="412"/>
                  <a:pt x="385" y="374"/>
                  <a:pt x="414" y="355"/>
                </a:cubicBezTo>
                <a:cubicBezTo>
                  <a:pt x="422" y="343"/>
                  <a:pt x="430" y="331"/>
                  <a:pt x="438" y="319"/>
                </a:cubicBezTo>
                <a:cubicBezTo>
                  <a:pt x="449" y="303"/>
                  <a:pt x="445" y="281"/>
                  <a:pt x="456" y="265"/>
                </a:cubicBezTo>
                <a:cubicBezTo>
                  <a:pt x="464" y="253"/>
                  <a:pt x="480" y="229"/>
                  <a:pt x="480" y="229"/>
                </a:cubicBezTo>
                <a:cubicBezTo>
                  <a:pt x="487" y="177"/>
                  <a:pt x="506" y="145"/>
                  <a:pt x="522" y="97"/>
                </a:cubicBezTo>
                <a:cubicBezTo>
                  <a:pt x="525" y="87"/>
                  <a:pt x="530" y="67"/>
                  <a:pt x="540" y="61"/>
                </a:cubicBezTo>
                <a:cubicBezTo>
                  <a:pt x="638" y="0"/>
                  <a:pt x="930" y="31"/>
                  <a:pt x="960" y="31"/>
                </a:cubicBezTo>
              </a:path>
            </a:pathLst>
          </a:custGeom>
          <a:noFill/>
          <a:ln w="2844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51280" y="4724280"/>
            <a:ext cx="792000" cy="507960"/>
          </a:xfrm>
          <a:custGeom>
            <a:avLst/>
            <a:gdLst/>
            <a:ahLst/>
            <a:rect l="l" t="t" r="r" b="b"/>
            <a:pathLst>
              <a:path w="774" h="320">
                <a:moveTo>
                  <a:pt x="0" y="320"/>
                </a:moveTo>
                <a:cubicBezTo>
                  <a:pt x="60" y="318"/>
                  <a:pt x="120" y="318"/>
                  <a:pt x="180" y="314"/>
                </a:cubicBezTo>
                <a:cubicBezTo>
                  <a:pt x="201" y="313"/>
                  <a:pt x="234" y="284"/>
                  <a:pt x="234" y="284"/>
                </a:cubicBezTo>
                <a:cubicBezTo>
                  <a:pt x="243" y="258"/>
                  <a:pt x="263" y="239"/>
                  <a:pt x="270" y="212"/>
                </a:cubicBezTo>
                <a:cubicBezTo>
                  <a:pt x="280" y="174"/>
                  <a:pt x="287" y="136"/>
                  <a:pt x="300" y="98"/>
                </a:cubicBezTo>
                <a:cubicBezTo>
                  <a:pt x="319" y="41"/>
                  <a:pt x="298" y="16"/>
                  <a:pt x="366" y="2"/>
                </a:cubicBezTo>
                <a:cubicBezTo>
                  <a:pt x="458" y="4"/>
                  <a:pt x="550" y="0"/>
                  <a:pt x="642" y="8"/>
                </a:cubicBezTo>
                <a:cubicBezTo>
                  <a:pt x="649" y="9"/>
                  <a:pt x="648" y="21"/>
                  <a:pt x="654" y="26"/>
                </a:cubicBezTo>
                <a:cubicBezTo>
                  <a:pt x="659" y="30"/>
                  <a:pt x="666" y="30"/>
                  <a:pt x="672" y="32"/>
                </a:cubicBezTo>
                <a:cubicBezTo>
                  <a:pt x="687" y="76"/>
                  <a:pt x="711" y="116"/>
                  <a:pt x="732" y="158"/>
                </a:cubicBezTo>
                <a:cubicBezTo>
                  <a:pt x="743" y="181"/>
                  <a:pt x="748" y="212"/>
                  <a:pt x="756" y="236"/>
                </a:cubicBezTo>
                <a:cubicBezTo>
                  <a:pt x="765" y="264"/>
                  <a:pt x="774" y="285"/>
                  <a:pt x="774" y="314"/>
                </a:cubicBezTo>
              </a:path>
            </a:pathLst>
          </a:custGeom>
          <a:noFill/>
          <a:ln w="2844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03640" y="3500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203640" y="4797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08472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6084720" y="478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1053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576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785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1367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42591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関西弁は・・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"/>
          <p:cNvSpPr/>
          <p:nvPr/>
        </p:nvSpPr>
        <p:spPr>
          <a:xfrm>
            <a:off x="684360" y="141300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否定の「～じゃない」が「～ちゃう」になり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234936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本人じゃ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51280" y="2421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16360" y="234468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日本人</a:t>
            </a:r>
            <a:r>
              <a:rPr b="0" lang="ja-JP" sz="3200" spc="-1" strike="noStrike">
                <a:solidFill>
                  <a:srgbClr val="996600"/>
                </a:solidFill>
                <a:latin typeface="Arial"/>
              </a:rPr>
              <a:t>ちゃ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350028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しずかじゃ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4360" y="3500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59280" y="349740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しずか</a:t>
            </a:r>
            <a:r>
              <a:rPr b="0" lang="ja-JP" sz="3200" spc="-1" strike="noStrike">
                <a:solidFill>
                  <a:srgbClr val="996600"/>
                </a:solidFill>
                <a:latin typeface="Arial"/>
              </a:rPr>
              <a:t>ちゃ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450864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このパソコン、べんりじゃ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11280" y="530064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2000" y="5300640"/>
            <a:ext cx="51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このパソコン、べんり</a:t>
            </a:r>
            <a:r>
              <a:rPr b="0" lang="ja-JP" sz="3200" spc="-1" strike="noStrike">
                <a:solidFill>
                  <a:srgbClr val="996600"/>
                </a:solidFill>
                <a:latin typeface="Arial"/>
              </a:rPr>
              <a:t>ちゃ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483080" y="2548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500720" y="3645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11280" y="2492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611280" y="3645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611280" y="4653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2916360" y="544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2568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2464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2124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181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2516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" dur="3274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42591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関西弁は・・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141300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否定の「～ない」が「～へん」になり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234936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食べ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51280" y="24256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16360" y="2349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食べ</a:t>
            </a:r>
            <a:r>
              <a:rPr b="0" lang="zh-CN" sz="3200" spc="-1" strike="noStrike">
                <a:solidFill>
                  <a:srgbClr val="996600"/>
                </a:solidFill>
                <a:latin typeface="Arial"/>
              </a:rPr>
              <a:t>へ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00000" y="350028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飲ま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35575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59280" y="349740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飲ま</a:t>
            </a:r>
            <a:r>
              <a:rPr b="0" lang="ja-JP" sz="3200" spc="-1" strike="noStrike">
                <a:solidFill>
                  <a:srgbClr val="996600"/>
                </a:solidFill>
                <a:latin typeface="Arial"/>
              </a:rPr>
              <a:t>へ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450864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プレゼント、あげ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11280" y="530064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32000" y="5300640"/>
            <a:ext cx="51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プレゼント、あげ</a:t>
            </a:r>
            <a:r>
              <a:rPr b="0" lang="zh-CN" sz="3200" spc="-1" strike="noStrike">
                <a:solidFill>
                  <a:srgbClr val="996600"/>
                </a:solidFill>
                <a:latin typeface="Arial"/>
              </a:rPr>
              <a:t>へ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427640" y="25480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500720" y="37004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539640" y="2492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539640" y="3645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539640" y="4653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2916360" y="544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2020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1367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" dur="1550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6" dur="1680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2255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2386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42591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関西弁は・・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"/>
          <p:cNvSpPr/>
          <p:nvPr/>
        </p:nvSpPr>
        <p:spPr>
          <a:xfrm>
            <a:off x="684360" y="141300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ことば・表現が　ちがい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63640" y="2060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Arial"/>
              </a:rPr>
              <a:t>＜共通語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95640" y="2781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48360" y="270828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Arial"/>
              </a:rPr>
              <a:t>おおき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63640" y="342900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いく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95640" y="3429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48360" y="335772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Arial"/>
              </a:rPr>
              <a:t>なんぼ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640" y="4076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い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95640" y="4076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19640" y="4005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Arial"/>
              </a:rPr>
              <a:t>え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63640" y="2708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ありがと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003640" y="2060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Arial"/>
              </a:rPr>
              <a:t>＜関西弁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63640" y="47242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だ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63640" y="5300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95640" y="4724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95640" y="5373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19640" y="4653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Arial"/>
              </a:rPr>
              <a:t>あか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19640" y="5300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Arial"/>
              </a:rPr>
              <a:t>ほん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476360" y="285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47636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1459080" y="4221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1459080" y="4869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1476360" y="544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4716360" y="55008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4716360" y="486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8"/>
          <a:stretch/>
        </p:blipFill>
        <p:spPr>
          <a:xfrm>
            <a:off x="4716360" y="4203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9"/>
          <a:stretch/>
        </p:blipFill>
        <p:spPr>
          <a:xfrm>
            <a:off x="4716360" y="357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0"/>
          <a:stretch/>
        </p:blipFill>
        <p:spPr>
          <a:xfrm>
            <a:off x="4716360" y="2924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1524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1445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" dur="1132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1184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2" dur="181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1315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" dur="1602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837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1889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7" dur="2072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21044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チャウチャウ犬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‐</a:t>
            </a:r>
            <a:r>
              <a:rPr b="0" lang="zh-CN" sz="2800" spc="-1" strike="noStrike">
                <a:solidFill>
                  <a:srgbClr val="996600"/>
                </a:solidFill>
                <a:latin typeface="Garamond"/>
              </a:rPr>
              <a:t>関西弁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"/>
          <p:cNvSpPr/>
          <p:nvPr/>
        </p:nvSpPr>
        <p:spPr>
          <a:xfrm>
            <a:off x="684360" y="1557360"/>
            <a:ext cx="720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あの犬、かわいい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うん、あれ、チャウチャウちゃ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ううん、チャウチャウちゃう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ほんま？　チャウチャウや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いや、チャウチャウちゃうんちゃ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2349360"/>
            <a:ext cx="792000" cy="287640"/>
          </a:xfrm>
          <a:custGeom>
            <a:avLst/>
            <a:gdLst/>
            <a:ahLst/>
            <a:rect l="l" t="t" r="r" b="b"/>
            <a:pathLst>
              <a:path w="1543" h="280">
                <a:moveTo>
                  <a:pt x="0" y="272"/>
                </a:moveTo>
                <a:cubicBezTo>
                  <a:pt x="193" y="276"/>
                  <a:pt x="386" y="280"/>
                  <a:pt x="545" y="272"/>
                </a:cubicBezTo>
                <a:cubicBezTo>
                  <a:pt x="704" y="264"/>
                  <a:pt x="825" y="249"/>
                  <a:pt x="953" y="226"/>
                </a:cubicBezTo>
                <a:cubicBezTo>
                  <a:pt x="1081" y="203"/>
                  <a:pt x="1218" y="174"/>
                  <a:pt x="1316" y="136"/>
                </a:cubicBezTo>
                <a:cubicBezTo>
                  <a:pt x="1414" y="98"/>
                  <a:pt x="1505" y="23"/>
                  <a:pt x="1543" y="0"/>
                </a:cubicBezTo>
              </a:path>
            </a:pathLst>
          </a:custGeom>
          <a:noFill/>
          <a:ln w="19080">
            <a:solidFill>
              <a:srgbClr val="cc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724360" y="5229360"/>
            <a:ext cx="1008360" cy="287280"/>
          </a:xfrm>
          <a:custGeom>
            <a:avLst/>
            <a:gdLst/>
            <a:ahLst/>
            <a:rect l="l" t="t" r="r" b="b"/>
            <a:pathLst>
              <a:path w="1543" h="280">
                <a:moveTo>
                  <a:pt x="0" y="272"/>
                </a:moveTo>
                <a:cubicBezTo>
                  <a:pt x="193" y="276"/>
                  <a:pt x="386" y="280"/>
                  <a:pt x="545" y="272"/>
                </a:cubicBezTo>
                <a:cubicBezTo>
                  <a:pt x="704" y="264"/>
                  <a:pt x="825" y="249"/>
                  <a:pt x="953" y="226"/>
                </a:cubicBezTo>
                <a:cubicBezTo>
                  <a:pt x="1081" y="203"/>
                  <a:pt x="1218" y="174"/>
                  <a:pt x="1316" y="136"/>
                </a:cubicBezTo>
                <a:cubicBezTo>
                  <a:pt x="1414" y="98"/>
                  <a:pt x="1505" y="23"/>
                  <a:pt x="1543" y="0"/>
                </a:cubicBezTo>
              </a:path>
            </a:pathLst>
          </a:custGeom>
          <a:noFill/>
          <a:ln w="19080">
            <a:solidFill>
              <a:srgbClr val="cc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43640" y="1413000"/>
            <a:ext cx="2189160" cy="40788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1908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会話をまとめて聞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24000" y="2637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24000" y="3645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324000" y="458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324000" y="5589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8317080" y="1916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2720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8" dur="2072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2699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8" dur="2072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3" dur="2438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8" dur="12103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5T02:28:11Z</dcterms:created>
  <dc:creator>国際交流基金</dc:creator>
  <dc:description/>
  <dc:language>en-US</dc:language>
  <cp:lastModifiedBy>国際交流基金</cp:lastModifiedBy>
  <dcterms:modified xsi:type="dcterms:W3CDTF">2011-06-17T00:57:32Z</dcterms:modified>
  <cp:revision>18</cp:revision>
  <dc:subject/>
  <dc:title>関西弁の　会話例</dc:title>
</cp:coreProperties>
</file>